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8CE9-6395-4DB0-B7EC-DD2C9114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51E-3DA4-4A31-B0A0-B4EA1866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E01-5E47-4C01-BB6B-48E1ABAA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30B-7F6A-4A36-87EB-078AC6B2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59B-36DF-497B-BBB4-E8C7D6B2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0CF-D28A-409C-95B0-786A28C7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5CE-6275-40FC-80E6-4AB1172D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DFF-A4C6-46E9-894E-11B16143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24A-EAF8-45DA-8996-DDF0784C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6B9-EE51-4103-A18F-888E8CEC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456E-2DE2-4592-873E-2D750C35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C90-87A8-4980-A003-BC20473C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425E-A4DB-4AA2-B7BC-93EAD1C4D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6:49:21Z</dcterms:created>
  <dc:creator>Grupo Editorial</dc:creator>
  <dc:description/>
  <dc:language>en-US</dc:language>
  <cp:lastModifiedBy>Grupo Editorial</cp:lastModifiedBy>
  <dcterms:modified xsi:type="dcterms:W3CDTF">2001-11-21T16:52:40Z</dcterms:modified>
  <cp:revision>1</cp:revision>
  <dc:subject/>
  <dc:title>Sin título de diapositiva</dc:title>
</cp:coreProperties>
</file>